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F9C-77F8-429E-939B-D061DC93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32C-8F3D-48D6-9499-2379639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8D7-1048-4233-B0B7-72AAE9AC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FC1-CAB6-444A-ACC4-53202B64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E013-410C-4208-82FA-5A4BF7D5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218B-39F4-4305-9B53-EAC10C98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C29-671E-46D8-A155-914AB5E7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39EE-47BB-4453-8D75-2F725F2B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8EE-8377-4FCB-BBF1-836C9E6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5F58-02D3-47C3-A456-3553168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F5BD-D8B0-4E7F-8FC7-A31CA9C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212-9AB5-4FED-96E6-A33940C9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79E2-1421-49E7-8BAC-19620E6E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DD8-7A9D-4DFE-83E2-53769AB7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8929-0F99-4364-90BE-B0CB99DF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584-8B94-46A7-B6C0-DD794139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0F4A-B14C-4E81-ABA9-0AF19E1E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EBD-B527-41B6-8235-AD17B8C9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218-52CD-4E46-BED7-74537379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B99-CE54-4284-8CA8-119072CA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380-0D86-4CFC-A95B-A24A60B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1A5-BE99-4F87-BC25-5634322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8E0-3AFD-4F5A-B97C-70C1D5A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309-7B5D-485B-A620-A28ECD2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CC05-75C4-42A4-97E6-AB5020910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485-801B-446F-8DDD-C2C70B84C6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pair of compounds can be classified as inorganic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8040" y="3276720"/>
            <a:ext cx="31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 nucleic acids and mineral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2. proteins and water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3. water and salt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4. nucleic acids and proteins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46:02Z</dcterms:created>
  <dc:creator>WaiverDay</dc:creator>
  <dc:description/>
  <dc:language>en-US</dc:language>
  <cp:lastModifiedBy>PritchaJ</cp:lastModifiedBy>
  <dcterms:modified xsi:type="dcterms:W3CDTF">2011-06-01T13:56:27Z</dcterms:modified>
  <cp:revision>2</cp:revision>
  <dc:subject/>
  <dc:title>Biochemistry Bellringer #5</dc:title>
</cp:coreProperties>
</file>